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444E-6C85-4519-93E4-82852B034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6643-1B37-4A18-94B0-D41DBFD24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66BD-9C5D-4D3F-9735-835296CC3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0FDA-CABB-4B0C-B8A6-000CCC2AD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6B0E4-BDD8-40CE-94BD-7FEF78408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A781E-33BF-41B3-90B7-8F55F7DB7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C3135-A757-4861-9269-2C264916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90EA6-BFB1-43D4-B302-F81DD5AAF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3A37F-56B8-4651-89A5-1584C3C25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E5316-CDD6-41BF-8230-8F23472CD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C448C-C8E2-4F9D-ACCE-3D4EBA31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0866-C5F1-48AD-9145-9C603D3F6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84BB2-8E75-4F6C-85F8-A597ECF8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6621C-665A-46B1-BEE3-2236A824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191EA-13BA-4C59-82E0-D73B840AF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B08A8-3F13-495E-8EF1-6EB23866C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FBDD6-6222-4FE1-9864-115F8FE9C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15A5-7760-43D9-AD86-F9C78DDCC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D431-2B7A-43B8-9C8E-21E14CBB6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FB01-7E31-4CBE-ACC3-3FCF419A9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55B7-8818-4F9F-AB6C-C293E0674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247A-7D9A-4980-BD0F-EDFBB98B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AB11-7199-4503-B7B2-6BC7A744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BEBB-3430-4A5A-964C-25F53828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B67CC-E3B0-4625-BC76-1BABD7FE7613}" type="datetime">
              <a:rPr b="0" lang="en-US" sz="12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2AF8C-EEBA-400F-8B31-3B6C07C1D47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273D9-8775-4A4C-8279-F97C136EB367}" type="datetime">
              <a:rPr b="0" lang="en-US" sz="14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3F871-2C40-4F54-BD91-6E3054C061B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ssessing Speaking Activiti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ubric Desig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apFLP Listening/Speaking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CC30020-288D-4C66-8472-803CDA4B3BE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ink/Pair/Sh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hat types of assessment categories or elements do you include in rubrics for oral activitie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hat do your rubrics look like physically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Think: 2 min; Pair: 3 min; Share 5 mi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pFLP Listening/Speaking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EFA193-7B4C-41B1-961A-43ABBD8558B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ubric Components (Table)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Vertical Ax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cepts to be taught (learning objective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pecific, measurable skill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Horizontal Axi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riteria to be evaluated (specifically named evidence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aried descriptions of performance with clear, specific languag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pFLP Listening/Speaking 200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CEEE71-F455-4C38-AAF4-9C08351CE2E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terpreting score point leve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vel 4 = “Exceeds expectation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vel 3 = “Meets expectation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vel 2 = “Partially meets expectation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vel 1 = “Does not meet expectation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pFLP Listening/Speaking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9E5532-4768-4DA1-AC62-405F09D53BB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uild-A-Rubric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ject context: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vel 2 video skit in a restaura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ith a partner, decide which assessment categories should be included in the rubric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Share out in 3 minut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pFLP Listening/Speaking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9500A3-FEEC-49B4-912F-CAD04DA8134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scriptor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egin with “Meets Expectation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ith your partner, write descriptors for score point 3 for each assessment categor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Share out in 10 minut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pFLP Listening/Speaking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92FAE6-5645-466B-A753-CF7EDDA558F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scriptor varian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ith your partner, write level 1, 2, and 4 descriptors for your assigned assessment categor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Report in 5 minut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pFLP Listening/Speaking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1240FB-686F-4746-8FFC-6477BBC695A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flections on rubric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s and c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actors to consid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eedback and revis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lu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pFLP Listening/Speaking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C0F66F-3A9C-440B-8ED2-96077C3CAE6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2T19:56:49Z</dcterms:created>
  <dc:creator>Christine Lanphere</dc:creator>
  <dc:description/>
  <dc:language>en-US</dc:language>
  <cp:lastModifiedBy>Christine Lanphere</cp:lastModifiedBy>
  <dcterms:modified xsi:type="dcterms:W3CDTF">2008-04-19T04:21:29Z</dcterms:modified>
  <cp:revision>12</cp:revision>
  <dc:subject/>
  <dc:title>PowerPoint Presentation</dc:title>
</cp:coreProperties>
</file>